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To play the movies and simulations included, view the presentation in Slide Show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e1c3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8DB1-F7E2-499D-85DD-4C8565A84A2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Comic Sans MS"/>
              </a:rPr>
              <a:t>The Mol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ncwmole"/>
          <p:cNvPicPr/>
          <p:nvPr/>
        </p:nvPicPr>
        <p:blipFill>
          <a:blip r:embed="rId1"/>
          <a:stretch/>
        </p:blipFill>
        <p:spPr>
          <a:xfrm>
            <a:off x="228600" y="1981080"/>
            <a:ext cx="281952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oleday"/>
          <p:cNvPicPr/>
          <p:nvPr/>
        </p:nvPicPr>
        <p:blipFill>
          <a:blip r:embed="rId2"/>
          <a:stretch/>
        </p:blipFill>
        <p:spPr>
          <a:xfrm>
            <a:off x="6019920" y="990720"/>
            <a:ext cx="2886120" cy="53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228600" y="449568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Impact"/>
              </a:rPr>
              <a:t>6.02 X 10</a:t>
            </a:r>
            <a:r>
              <a:rPr b="1" lang="en-US" sz="9600" spc="-1" strike="noStrike" baseline="30000">
                <a:solidFill>
                  <a:srgbClr val="000000"/>
                </a:solidFill>
                <a:latin typeface="Impact"/>
              </a:rPr>
              <a:t>2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57200" y="304920"/>
            <a:ext cx="1981080" cy="156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mistry I HD – Chapter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mistry I – 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CP - Hand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514600" y="236232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ss of 1 mole (in g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to the numerical value of the average atomic mass (get from periodic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 C ato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0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Mg ato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.3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Cu ato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.5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Molar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Other Names Related to Molar 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 Mass/Molecular Wei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have a single molecule, mass is measured in amu’s instead of grams. But, the molecular mass/weigh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 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1 mole of molecules.  Only the units are different. (This is the beauty of Avogadro’s Numbe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 Mass/Formula Wei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me goes for compounds.  But agai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numerical value is the 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Only the units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0b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b2d"/>
                </a:solidFill>
                <a:latin typeface="Arial"/>
              </a:rPr>
              <a:t>THE POINT: You may hear </a:t>
            </a:r>
            <a:r>
              <a:rPr b="1" lang="en-US" sz="2800" spc="-1" strike="noStrike" u="sng">
                <a:solidFill>
                  <a:srgbClr val="990b2d"/>
                </a:solidFill>
                <a:uFillTx/>
                <a:latin typeface="Arial"/>
              </a:rPr>
              <a:t>all</a:t>
            </a:r>
            <a:r>
              <a:rPr b="1" lang="en-US" sz="2800" spc="-1" strike="noStrike">
                <a:solidFill>
                  <a:srgbClr val="990b2d"/>
                </a:solidFill>
                <a:latin typeface="Arial"/>
              </a:rPr>
              <a:t> of these terms</a:t>
            </a:r>
            <a:r>
              <a:rPr b="0" lang="en-US" sz="2800" spc="-1" strike="noStrike">
                <a:solidFill>
                  <a:srgbClr val="990b2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b2d"/>
                </a:solidFill>
                <a:latin typeface="Arial"/>
              </a:rPr>
              <a:t>which mean the </a:t>
            </a:r>
            <a:r>
              <a:rPr b="0" i="1" lang="en-US" sz="2400" spc="-1" strike="noStrike">
                <a:solidFill>
                  <a:srgbClr val="990b2d"/>
                </a:solidFill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990b2d"/>
                </a:solidFill>
                <a:latin typeface="Arial"/>
              </a:rPr>
              <a:t>… just differen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d the molar mas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usually we round to the tenths plac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633840"/>
            <a:ext cx="436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r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Sn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801320" y="3537000"/>
            <a:ext cx="3306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79.9 g/m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801680" y="4114800"/>
            <a:ext cx="330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18.7 g/m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ss in grams of 1 mole equal numerically to the sum of the atomic m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of  CaCl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111.1 g/mo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40.1 g/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2 moles 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35.5 g/mol    = 111.1 g/mol C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of N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92.0 g/m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57200" y="4800600"/>
            <a:ext cx="792468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Molar Mass of Molecules and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olar Mas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 = ? Grams/mol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olar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as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of antacid Al(OH)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= ? Grams/mol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HINK!.WAV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3369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zac,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is a widely used  antidepressant that inhibits the uptake of serotonin by the brain.  Find its mola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lar mass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m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les</a:t>
            </a:r>
            <a:r>
              <a:rPr b="1" lang="en-US" sz="30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352680" y="3352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alculations with Molar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 is often used for the structure of light-weight bicycle frames.  How many grams of Al are in 3.00 moles of A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00 moles Al           ? g 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03848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2209680" cy="1785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onverting Mo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7760" y="685440"/>
            <a:ext cx="9066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1.  Molar mass of Al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Al = 27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2. Conversion factors for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7.0g 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or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1 mol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 Al                    27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3. Setup</a:t>
            </a:r>
            <a:r>
              <a:rPr b="1" i="1" lang="en-US" sz="30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00 moles Al    x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7.0 g A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Answer        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e8e816"/>
                </a:solidFill>
                <a:latin typeface="Arial"/>
              </a:rPr>
              <a:t>81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artificial sweetener aspartame (Nutra-Sweet) formula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s used to sweeten diet foods, coffee and soft drinks. How many moles of aspartame are present in 225 g of asparta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7467480" y="0"/>
          <a:ext cx="16765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0"/>
                    <a:ext cx="1676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87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63de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36576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Atoms/Molecu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icles = 1 mo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= molar mass (g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convert atoms/molecules to moles and then moles to grams! (Two step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’t go directly from atoms to grams!!!! You MUST go thru M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like asking 2 dozen cookies weigh how many ounces if 1 cookie weighs 4 oz?  You have to convert to dozen fir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ar mass             Avogadro’s number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verything must go through Moles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523880" y="28195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95680" y="28195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Atoms/Molecu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oms of Cu are present in 35.4 g of C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3505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.4 g Cu        1 mol Cu       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 C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63.5 g 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mol 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304920" y="403848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36232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449568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57400" y="5181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e816"/>
                </a:solidFill>
                <a:latin typeface="Arial"/>
              </a:rPr>
              <a:t>= 3.4 X 10</a:t>
            </a:r>
            <a:r>
              <a:rPr b="1" lang="en-US" sz="3200" spc="-1" strike="noStrike" baseline="30000">
                <a:solidFill>
                  <a:srgbClr val="e8e816"/>
                </a:solidFill>
                <a:latin typeface="Arial"/>
              </a:rPr>
              <a:t>23 </a:t>
            </a:r>
            <a:r>
              <a:rPr b="1" lang="en-US" sz="3200" spc="-1" strike="noStrike">
                <a:solidFill>
                  <a:srgbClr val="e8e816"/>
                </a:solidFill>
                <a:latin typeface="Arial"/>
              </a:rPr>
              <a:t>atoms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371600" y="373356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352680" y="4114440"/>
            <a:ext cx="838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3124080" y="365724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 flipV="1">
            <a:off x="6095880" y="4114440"/>
            <a:ext cx="1295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Copper%20Statue%20of%20Liberty"/>
          <p:cNvPicPr/>
          <p:nvPr/>
        </p:nvPicPr>
        <p:blipFill>
          <a:blip r:embed="rId1"/>
          <a:stretch/>
        </p:blipFill>
        <p:spPr>
          <a:xfrm>
            <a:off x="7746840" y="0"/>
            <a:ext cx="1397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oms of K are present in 78.4 g of 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712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ass (in grams) of 1.2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ecules of glucose (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systeme-glucose"/>
          <p:cNvPicPr/>
          <p:nvPr/>
        </p:nvPicPr>
        <p:blipFill>
          <a:blip r:embed="rId2"/>
          <a:stretch/>
        </p:blipFill>
        <p:spPr>
          <a:xfrm>
            <a:off x="6248520" y="1522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54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 are present in 78.1 g of oxyg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880" y="350532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.1 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 mo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8e816"/>
                </a:solidFill>
                <a:latin typeface="Arial"/>
              </a:rPr>
              <a:t>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oms 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2.0 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 mo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04920" y="396252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182880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27672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1143000" y="365724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2743200" y="3962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2286000" y="36572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962520" y="4038480"/>
            <a:ext cx="9903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6781680" y="3505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52880" y="3657240"/>
            <a:ext cx="1752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7162920" y="4114440"/>
            <a:ext cx="1676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86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ercent carbon in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the glutamic acid used to make MSG monosodium glutamate), a compound used to flavor foods and tenderize mea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a)   8.22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b)   24.3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c)   41.1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241720" cy="2787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ercen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Round1.wav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566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0f"/>
                </a:solidFill>
                <a:latin typeface="Comic Sans MS"/>
              </a:rPr>
              <a:t>Chemical Formulas of Compounds</a:t>
            </a:r>
            <a:br>
              <a:rPr sz="3600"/>
            </a:b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 give the relative numbers of atoms or moles of each element in a formula unit - always a whole number ratio (the law of definite propor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 atoms of O for every 1 atom 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ole of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2 moles of O atoms to every 1 mole of N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know or can determine the relative number of moles of each element in a compound, we can determine a formula for the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70f"/>
                </a:solidFill>
                <a:latin typeface="Comic Sans MS"/>
              </a:rPr>
              <a:t>Types of Formulas</a:t>
            </a:r>
            <a:br>
              <a:rPr sz="4400"/>
            </a:br>
            <a:r>
              <a:rPr b="1" lang="en-US" sz="20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ula of a compound that expresse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mallest whole number ra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atom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formula are always empir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ula that state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mber of each kind of atom found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lec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0f"/>
                </a:solidFill>
                <a:latin typeface="Comic Sans MS"/>
              </a:rPr>
              <a:t>To obtain an </a:t>
            </a:r>
            <a:r>
              <a:rPr b="1" i="1" lang="en-US" sz="3600" spc="-1" strike="noStrike">
                <a:solidFill>
                  <a:srgbClr val="ff070f"/>
                </a:solidFill>
                <a:latin typeface="Comic Sans MS"/>
              </a:rPr>
              <a:t>Empirical Formula </a:t>
            </a: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mass in grams of each element present,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number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each by the smallest number of moles to obta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plest whole number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whole numbers are not obtaine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step 3),  multiply through by the smallest number that will give all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areful! Do not round off number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nting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a dozen, except instead of 12, it’s 602 billion trillion 602,000,000,000,000,00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 scientific no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number is named in honor of </a:t>
            </a: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Amedeo _________ (1776 – 185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ho studied quantities of gases and discovered that no matter what the gas was, there were the same number of molecules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vogadro"/>
          <p:cNvPicPr/>
          <p:nvPr/>
        </p:nvPicPr>
        <p:blipFill>
          <a:blip r:embed="rId1"/>
          <a:stretch/>
        </p:blipFill>
        <p:spPr>
          <a:xfrm>
            <a:off x="6784920" y="1981080"/>
            <a:ext cx="235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35632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ample of a brown gas, a major air pollutant, is found to contain 2.34 g N and 5.34g O.  Determine a formula for this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tios  so convert grams to m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s of N 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4g of 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167 moles o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01 g/m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s of O  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34 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= 0.334 moles of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0 g/m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133720" y="5867280"/>
                <a:ext cx="11174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 </m:t>
                    </m:r>
                    <m:r>
                      <m:t xml:space="preserve">O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4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4" name="Object 5"/>
          <p:cNvGraphicFramePr/>
          <p:nvPr/>
        </p:nvGraphicFramePr>
        <p:xfrm>
          <a:off x="3962520" y="5791320"/>
          <a:ext cx="22604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791320"/>
                    <a:ext cx="2260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7"/>
          <p:cNvSpPr/>
          <p:nvPr/>
        </p:nvSpPr>
        <p:spPr>
          <a:xfrm>
            <a:off x="6801480" y="64008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0f"/>
                </a:solidFill>
                <a:latin typeface="Times New Roman"/>
              </a:rPr>
              <a:t>(HONOR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Calculation of the Molecular Formula</a:t>
            </a:r>
            <a:br>
              <a:rPr sz="2800"/>
            </a:b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mpound has an empirical formula of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The colourless liquid, used in rocket engines has a molar mass of 92.0 g/mole.  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lecular formu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is subst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Empirical Formula from % Composition</a:t>
            </a:r>
            <a:br>
              <a:rPr sz="2800"/>
            </a:b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bstance has the following composition by mass: 60.80 % Na ;  28.60 % B ;  10.60 %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empirical formula of the subst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a sample size of 100 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will contain  28.60 grams of B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60 grams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number of mo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simplest whole number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Just How Big is a M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3200" y="129492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ough soft drink cans to cover the surface of the earth to a depth of over 200 m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had Avogadro's number of unpopped popcorn kernels, and spread them across the United States of America, the country would be covered in popcorn to a depth of over 9 m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were able to count atoms at the rate of 10 million per second, it would take about 2 billion years to count the atoms in one m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okecans"/>
          <p:cNvPicPr/>
          <p:nvPr/>
        </p:nvPicPr>
        <p:blipFill>
          <a:blip r:embed="rId1"/>
          <a:stretch/>
        </p:blipFill>
        <p:spPr>
          <a:xfrm>
            <a:off x="228600" y="1828800"/>
            <a:ext cx="2448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Everybody Has Avogadro’s Number!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But Where Did it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NOT just picked!  It was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better methods of measuring this number was the Millikan Oil Drop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n we have found even better ways of measuring using x-ray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illikansoildropexperiment.avi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cookies = 12 cook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cookie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cars = 12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car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Al atoms = 12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Al atom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at the NUMBER is always the same, but the MASS is very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 is abbreviated mol (gee, that’s a lot quicker to write, huh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362320" y="1294920"/>
            <a:ext cx="6248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 at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Cl “molecule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echnically, ionics are compounds not molecules so they are called formula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ons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 Mole of Particles</a:t>
            </a:r>
            <a:br>
              <a:rPr sz="4000"/>
            </a:b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b2d"/>
                </a:solidFill>
                <a:latin typeface="Arial"/>
              </a:rPr>
              <a:t>Contains 6.02 x 10</a:t>
            </a:r>
            <a:r>
              <a:rPr b="1" lang="en-US" sz="4000" spc="-1" strike="noStrike" baseline="30000">
                <a:solidFill>
                  <a:srgbClr val="990b2d"/>
                </a:solidFill>
                <a:latin typeface="Arial"/>
              </a:rPr>
              <a:t>23 </a:t>
            </a:r>
            <a:r>
              <a:rPr b="1" lang="en-US" sz="4000" spc="-1" strike="noStrike">
                <a:solidFill>
                  <a:srgbClr val="990b2d"/>
                </a:solidFill>
                <a:latin typeface="Arial"/>
              </a:rPr>
              <a:t>particles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920" y="1981080"/>
            <a:ext cx="236376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NaC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articles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 mo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at a particle could be an atom OR a molecu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666880" y="4724280"/>
            <a:ext cx="381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514600" y="2590920"/>
            <a:ext cx="419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vogadro’s Number as Conversion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umber of atoms in 0.500 mole of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)   500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b)   6.02 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)   3.01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Number of moles of S in 1.8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)   1.0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b)   3.0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)   1.1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48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23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Neil Rapp</dc:creator>
  <dc:description/>
  <cp:keywords>moles avogadro's number grams mole</cp:keywords>
  <dc:language>en-US</dc:language>
  <cp:lastModifiedBy>installer</cp:lastModifiedBy>
  <cp:lastPrinted>2002-08-08T15:40:28Z</cp:lastPrinted>
  <dcterms:modified xsi:type="dcterms:W3CDTF">2010-12-03T21:58:24Z</dcterms:modified>
  <cp:revision>85</cp:revision>
  <dc:subject>Chemistry I (High School)</dc:subject>
  <dc:title>The Mole</dc:title>
</cp:coreProperties>
</file>